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6B9-8049-4182-B685-6B21B546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E8B-0B01-4A78-A76E-3D8C515B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1FC-525E-4803-8749-CCFE6AA1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177-E3B2-44D6-A235-D25583DE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445-7125-46BB-A213-2A0F5C88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01C-77D9-4526-BC93-22D25F59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F3F-6F08-48F6-94F2-F3FEDC5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E40-A3A1-4E57-B026-FEE067C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7A7-F2AC-4DA8-B23A-481FFCA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B4B-1EB8-4E64-86DD-81E9351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248-401E-431B-ABC6-C3DCBB7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3B5-4A28-444F-96C7-407A7DA5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005cbf">
                <a:alpha val="65098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9DAA-3C6A-46B1-B35C-392261940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r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can we avoid i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arré corné 2"/>
          <p:cNvSpPr/>
          <p:nvPr/>
        </p:nvSpPr>
        <p:spPr>
          <a:xfrm>
            <a:off x="395280" y="260280"/>
            <a:ext cx="1297080" cy="86508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200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I / Cub was yo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ork to d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y on huge database 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line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st the model for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 r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57760" y="5000760"/>
            <a:ext cx="915840" cy="885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857160" y="4429080"/>
            <a:ext cx="50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vince people to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give up analytic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5:24:08Z</dcterms:created>
  <dc:creator>Stephane</dc:creator>
  <dc:description/>
  <dc:language>en-US</dc:language>
  <cp:lastModifiedBy>Stephane Lallee</cp:lastModifiedBy>
  <dcterms:modified xsi:type="dcterms:W3CDTF">2013-07-24T12:13:23Z</dcterms:modified>
  <cp:revision>20</cp:revision>
  <dc:subject/>
  <dc:title>Diapositive 1</dc:title>
</cp:coreProperties>
</file>